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png" ContentType="image/png"/>
  <Override PartName="/ppt/media/image6.jpeg" ContentType="image/jpeg"/>
  <Override PartName="/ppt/media/image5.wmf" ContentType="image/x-wmf"/>
  <Override PartName="/ppt/media/image9.jpeg" ContentType="image/jpeg"/>
  <Override PartName="/ppt/media/image23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4.png" ContentType="image/png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8.jpeg" ContentType="image/jpeg"/>
  <Override PartName="/ppt/media/image14.wmf" ContentType="image/x-wmf"/>
  <Override PartName="/ppt/media/image27.wmf" ContentType="image/x-wmf"/>
  <Override PartName="/ppt/media/image15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4880" cy="3363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etodologia didattica che verrà adottata nel seminario è altrettanto importante per realizzare gli obiettivi di apprendimento prop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139D-921A-4228-8E42-08C8DD378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68A8-D90F-47E8-BC00-9EC22033E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D3E1-C074-4512-A6E8-4CC7D131D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A861-DE66-4063-82C6-D7B666498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13700-88FC-4C7B-9A82-38B6386F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91878-FCE4-4E3F-913C-95A3A0D0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A6D3-F033-4B3C-ABBF-3577A9AF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DF968-E524-4CFA-89AE-0DE6E160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DEEBD-52E4-42A9-B238-EC37C29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8816E-E581-4566-B8A0-11E45790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DF34-37FE-4AE0-9890-28418C73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52AC-E0E3-4875-8EEA-1085B82C2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8415-E0AC-4A77-B44D-AD52A09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A0C48-7FD0-40EB-9F8C-416ABE3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4C66D-C31C-477E-A824-C7FC1202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21051-6132-4ED6-95FF-914090AA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41911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67920"/>
            <a:ext cx="2060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74DE2-44E3-4BB4-9416-34EEF37F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C73A-09EF-4583-A3E0-C94CAEBBB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BFEB-3800-4B08-AC92-25450048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1480-70B8-43C9-8BB8-509F3CD66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0F3B-F7A5-4C19-823B-380AC5E84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D5676-A67A-4A35-8328-723D8B8DB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7880" y="48679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3E9E3-22B2-406E-A30F-2D133785D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7880" y="4191120"/>
            <a:ext cx="312336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867920"/>
            <a:ext cx="64008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EBEF-106B-486C-966D-7334935B7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9FB-DD13-4B3F-9F53-88F688E8A91C}" type="slidenum">
              <a:rPr b="1" lang="en-US" sz="12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1965-3957-4420-AF63-6853CECB6691}" type="slidenum">
              <a:rPr b="1" lang="en-US" sz="1400" spc="-1" strike="noStrike">
                <a:solidFill>
                  <a:srgbClr val="0000c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7474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7474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LA RIUNIONE COME LUOGO </a:t>
            </a:r>
            <a:br>
              <a:rPr sz="3000"/>
            </a:b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DI MEDIAZIONE E NEGOZIAZIONE</a:t>
            </a:r>
            <a:br>
              <a:rPr sz="3000"/>
            </a:b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Dott. Enrico Flavio Giangreco</a:t>
            </a:r>
            <a:br>
              <a:rPr sz="28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Docente di Formazione</a:t>
            </a:r>
            <a:br>
              <a:rPr sz="26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Giornalista Professionista</a:t>
            </a:r>
            <a:endParaRPr b="0" lang="en-US" sz="26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4021200"/>
            <a:ext cx="342900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A220-6F13-4F3D-8D28-279142BAC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requisiti di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meno tre pers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biettivo comune interrelat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ntiguità fisica periodic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" y="2517840"/>
            <a:ext cx="3814920" cy="273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2F0E-7040-4135-BBFD-17F4E81A5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am building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Gruppo di lavor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ommittenza organizzativ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Obiettivo chiaro e condivi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Analisi delle risorse e dei vincol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(R.U./Tecnologia/Tempo/Budget)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7E361-501A-4A38-A987-E3E8538899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l'interno di un gruppo è necessario concordare una serie di regole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FONDAMENTA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Gli scopi di tali regole s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stabilire un codice di comportamento comune durante le riunioni e le altre interazioni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offrire ai membri del team un quadro di riferimento per affrontare il comportamento reciproco, senza che l'interazione rischi continuamente di diventare una questione personale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8F9E-53CF-4230-89D3-C2FC222F1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erché funzionino, le regole dev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prese di comune accordo da tutti i componenti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sufficientemente specifiche da essere pratiche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crescere insieme al Team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on devono, al contrari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d'ostacolo alla creatività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usate come un'arma contro i singoli di fronte ai colleghi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94A38-9E77-4E6D-BC9C-A2B841DF2B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cune dinamiche portano i membri di un gruppo a prendere sovente delle decisioni che individualmente non prenderebbero (la logica del gregge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35000" y="2552760"/>
            <a:ext cx="285588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728C-059F-4173-A252-9393B1D889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spingono alcuni individui a esprimere opinioni estreme che non prenderebbero se non fossero sfidati o sollecitati da interlocutori in disaccordo (la logica del campanile)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368440"/>
            <a:ext cx="3814920" cy="303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26F5-D94B-423E-9FBC-8E67D0C610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nei gruppi riguardano i gruppi eccessivamente coesi, i quali spesso sono più interessati a mantenere un livello di coesione e consenso interno alto, piuttosto che individuare la migliore delle soluzioni. (la logica della band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85960" y="2982960"/>
            <a:ext cx="161280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09B4-6543-44F2-A35A-D20A3C466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Un approccio adeguato al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Favorire il dissenso nel gruppo, quindi, può, in qualche modo, stimolare lo spirito critic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04840" y="2666880"/>
            <a:ext cx="2990880" cy="23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72C8-9F95-4E58-94DA-EB3BBCA081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struttura del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dimensione psicologica della struttura 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uppo è costituita 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orti di amiciz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patia / Antipat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ressiv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etizione / Collabora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000066"/>
                </a:solidFill>
                <a:latin typeface="Wingdings"/>
                <a:ea typeface="Wingdings"/>
              </a:rPr>
              <a:t></a:t>
            </a:r>
            <a:endParaRPr b="0" lang="en-US" sz="41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eferenz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fiu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ociazione di pers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requenz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lità delle rel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F8EA-C5EE-45B6-AE2F-072A3A0123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forze in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attrazione interperson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influenza soci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e rego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l conformism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714680" y="3008160"/>
            <a:ext cx="1755720" cy="17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D4A9-E8E7-4B2B-81A6-B044C76BC8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biettivi di apprendimen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6920" cy="49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Identificare la comunicazione come leva di superamento dei conflit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comunicazione come strumento di mediazione per lavorare in tea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Comunicare in una riunione per negoziare: un approccio assertivo per essere persuasiv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Utilizzare in modo appropriato le strategie negoziali nel governo di una riunion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FF436-14F8-4315-B267-95E0E2CE4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Ruolo 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1640" y="1125000"/>
            <a:ext cx="3886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osizione di un membro rispetto agli altri componenti di un grupp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it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un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eazioni Comportamentali Ipotizzabi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741320" y="2965320"/>
            <a:ext cx="17035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1D1C-34C4-4FC8-B15F-DFFFEC8F75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gruppo e la soddisfazione dei bisog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EAD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equilibri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l’individu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ROUP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 grup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22600" y="2976480"/>
            <a:ext cx="173988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2D9B-6603-4642-82DE-277127CC4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Comunicazione Assertiva 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per 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311D7-03A4-49D0-AB4B-15DCFC8F08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'ASSERTIVITA' SI BASA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 senso di responsabilità persona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la consapevolezza dei diritti altru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44560" y="2655720"/>
            <a:ext cx="1695600" cy="24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B74C-B84D-4CAB-8F2E-B77EFF205B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48000" y="260280"/>
            <a:ext cx="5796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L’assertività significa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Essere onesti con se stessi e con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la capacità di comunicare direttamente quale è la cosa che vogliamo, di cui abbiamo bisogno o che proviamo, ma </a:t>
            </a:r>
            <a:r>
              <a:rPr b="0" lang="it-IT" sz="2600" spc="-1" strike="noStrike" u="sng">
                <a:solidFill>
                  <a:srgbClr val="000066"/>
                </a:solidFill>
                <a:uFillTx/>
                <a:latin typeface="Tahoma"/>
              </a:rPr>
              <a:t>NON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 a spese del prossim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fiducia in se stess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Tenere un atteggiamento positiv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rendere il punto di vista de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ortarsi in modo razionale e adulto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Riuscire a negoziare e a raggiungere un compromesso realizzabile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rispetto per se e per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1035000" y="3317760"/>
            <a:ext cx="663480" cy="10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AB40-F1E4-4F19-AB58-C2611582FB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L’assertività NON signific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are di testa propria e vincere semp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mparare a pappagallo una serie di tecniche e trucchetti prestabiliti da utilizzare ogni volta che si presenta una soluzione diffici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novrare e controllare gli altri in modo da averla sempre vi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873080" y="2894040"/>
            <a:ext cx="144000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413E-92A4-4E0E-8F7A-D48E949171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L’assertività permett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vere molte più possibilità di ottenere ciò che si vuo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ccettare positivamente se stesso e il proprio comport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25480" y="3035160"/>
            <a:ext cx="173376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3FD5-AA96-42F7-9991-B0F7A0EEA1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tre fasi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acquisire assertività vi sono tre semplici fa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1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COLTATE ATTIVAMENTE QUELLO CHE VIENE DETTO, POI MOSTRATE ALL'ALTRA PERSONA CHE AVETE SENTITO E CAPI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2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PENSATE O COSA PROVA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VOLETE CHE ACC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D76F-930E-4115-AD7F-3737762D3C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cniche chiave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24000" y="907560"/>
            <a:ext cx="449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inguaggio del cor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Tecnica del disco incanta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re N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romesso realizzabi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nnebbi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aloghi interior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e di sentimenti nega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i di disaccord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1104840" y="2595600"/>
            <a:ext cx="23893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FDEB-6FD7-4006-B1BC-CE308F1220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456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Migliorare il modo di comunicare, combattere l’ansia, in una parola, padroneggiare la situazione, significa diventare asser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ventare assertivi consente il creare un “potere positivo”, l’esercitare una leadership attiva, l’avere credibilità e, quindi, l’</a:t>
            </a:r>
            <a:r>
              <a:rPr b="0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essere persuasivi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35000" y="2882880"/>
            <a:ext cx="1619280" cy="17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164F-374C-462E-B5C0-ECDC2CA82E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Gli assiomi della comunicaz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87480" y="1676520"/>
            <a:ext cx="4770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si può non comunic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messaggio presenta un aspetto di contenuto e uno di relazio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significato di una sequenza di informazioni scritte è dato dalla punteggia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relazioni simmetriche e relazioni complementar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È gratuito supporre che l'altro colga le stesse informazioni e le elabori nello stesso mo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71440" y="2882880"/>
            <a:ext cx="1370160" cy="19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3F13-2567-43A9-8309-4F0C27D34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572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far questo è necessario super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 psicologico del potere e, quindi, delle responsabilità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, a priori, delle situazioni conflittual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eccessiva importanza data al “giudizio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ncapacità di “fidarsi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a paura di non “riuscire”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anticipo mentale delle “conseguenze negative” e, quindi, l’inibizione dell’immaginazione positiva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o scarso livello di “speranza” nel futuro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mpossibilità di credere alle proprie capacità di “influenzare” gli altri.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35000" y="2739960"/>
            <a:ext cx="14004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0804-756F-4880-A8D4-74D405F682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5640" y="1413000"/>
            <a:ext cx="4430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’ bene tenere, sempre, presente che ognuno possiede delle risorse e delle potenzialità, che può utilizzare meglio e valorizzare, che possono diventare i punti di forza di un proprio “stile comunicativo” personale e sogget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comportamento assertivo è una qualità che permette a un soggetto di raggiungere gli obiettivi prefissati senza creare situazioni conflittual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374840" y="2451240"/>
            <a:ext cx="1498680" cy="24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93F9-CFBE-4301-ADA4-B932A76DBA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piani della comunicazione assertiva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24360" y="1341000"/>
            <a:ext cx="4533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comunicazione assertiva si esprime su piani differenti che riguarda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viso (contatto visivo; espressione del vis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corpo (gesti; posizione del corp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la voce (tono; inflessione; volume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 tempi (andata; ritorno)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71440" y="2739960"/>
            <a:ext cx="166392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66E2C-1372-468A-B90A-AEAD965D4F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98FE3-41BC-4D66-B9D6-2B5A05E33C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00" y="1905120"/>
            <a:ext cx="142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9120" y="191772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560" y="2421000"/>
            <a:ext cx="176940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L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S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5160" y="2374920"/>
            <a:ext cx="58935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nire dati preliminari e aggiornare situazioni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plicitare politiche dell’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re disposizioni e diffondere conoscen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acilitare l’omogeneità del modo di lavor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ccogliere pare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alutare aspetti glob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frontare competenze specifi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aborare alternative e preparare decisio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rovare una raccomand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egliere tra varie propo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finire piani d’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respons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vviare nuovi proge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Tipologie e Obiett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FEBCB-B433-44F9-935D-2D24B0795C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44640"/>
            <a:ext cx="187308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844640"/>
            <a:ext cx="598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bilire obiettivi e durata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unicare quanto sopra a tutti i partecipanti fornendo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teriale di rifer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chiedere conferma della partecip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erificare il consenso sugli 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partire il tempo a dis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minare un segretario per far rispettare i tempi e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are un 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tribuire il verbale con le indicazioni s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 fa cos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ntro quali tem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 quali riso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adenze per ulteriori incontri o verific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Organizzare una Riun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A466-BF0F-4E09-8329-8796710F36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l governo della Riunione: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e Strategie Negozial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15670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88AAB-89EE-4318-81CF-3B62749D2B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286000"/>
            <a:ext cx="73152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268200" y="236232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41640" y="1600200"/>
            <a:ext cx="6241320" cy="667800"/>
            <a:chOff x="2141640" y="1600200"/>
            <a:chExt cx="6241320" cy="667800"/>
          </a:xfrm>
        </p:grpSpPr>
        <p:sp>
          <p:nvSpPr>
            <p:cNvPr id="189" name=""/>
            <p:cNvSpPr/>
            <p:nvPr/>
          </p:nvSpPr>
          <p:spPr>
            <a:xfrm>
              <a:off x="2141640" y="16207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00480" y="163044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66640" y="16002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880" y="1601640"/>
            <a:ext cx="1710000" cy="4500000"/>
            <a:chOff x="2880" y="1601640"/>
            <a:chExt cx="1710000" cy="4500000"/>
          </a:xfrm>
        </p:grpSpPr>
        <p:sp>
          <p:nvSpPr>
            <p:cNvPr id="193" name=""/>
            <p:cNvSpPr/>
            <p:nvPr/>
          </p:nvSpPr>
          <p:spPr>
            <a:xfrm>
              <a:off x="229320" y="1601640"/>
              <a:ext cx="117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0" y="2362320"/>
              <a:ext cx="17100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Obiettivo 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pres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degli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28080" y="2363760"/>
            <a:ext cx="7142760" cy="3739320"/>
            <a:chOff x="1828080" y="2363760"/>
            <a:chExt cx="7142760" cy="3739320"/>
          </a:xfrm>
        </p:grpSpPr>
        <p:sp>
          <p:nvSpPr>
            <p:cNvPr id="196" name=""/>
            <p:cNvSpPr/>
            <p:nvPr/>
          </p:nvSpPr>
          <p:spPr>
            <a:xfrm>
              <a:off x="1828080" y="2363760"/>
              <a:ext cx="183348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 spes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Nasconde 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roprie carte: a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iducia in se stes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 bassa nel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prende 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istorc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90160" y="2363760"/>
              <a:ext cx="24462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stenuti in comu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’altra 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rim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nsieri e emozioni c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iducia e schiettezz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scolto attivo ed espl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zione comune del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erna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rende e rappres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 accuratament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52000" y="2363760"/>
              <a:ext cx="241884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ciamente subord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a i propri obiettivi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re il confli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letamente ap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ell’esprimere le propr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bolezze e vulnera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occupato de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’altro, reprim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opr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57B3A-160B-4BAC-98D9-90B0E361B71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52480" y="2209680"/>
            <a:ext cx="739152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4960" y="233028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068560" y="1523880"/>
            <a:ext cx="6238440" cy="667800"/>
            <a:chOff x="2068560" y="1523880"/>
            <a:chExt cx="6238440" cy="667800"/>
          </a:xfrm>
        </p:grpSpPr>
        <p:sp>
          <p:nvSpPr>
            <p:cNvPr id="202" name=""/>
            <p:cNvSpPr/>
            <p:nvPr/>
          </p:nvSpPr>
          <p:spPr>
            <a:xfrm>
              <a:off x="2068560" y="15541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25600" y="155412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90680" y="152388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1569960"/>
            <a:ext cx="1905120" cy="5288040"/>
            <a:chOff x="0" y="1569960"/>
            <a:chExt cx="1905120" cy="5288040"/>
          </a:xfrm>
        </p:grpSpPr>
        <p:sp>
          <p:nvSpPr>
            <p:cNvPr id="206" name=""/>
            <p:cNvSpPr/>
            <p:nvPr/>
          </p:nvSpPr>
          <p:spPr>
            <a:xfrm>
              <a:off x="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320" y="156996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0" y="2286000"/>
              <a:ext cx="174348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Prevedi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ndivi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informaz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ricer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752120" y="2286000"/>
            <a:ext cx="7391880" cy="3982680"/>
            <a:chOff x="1752120" y="2286000"/>
            <a:chExt cx="7391880" cy="3982680"/>
          </a:xfrm>
        </p:grpSpPr>
        <p:sp>
          <p:nvSpPr>
            <p:cNvPr id="210" name=""/>
            <p:cNvSpPr/>
            <p:nvPr/>
          </p:nvSpPr>
          <p:spPr>
            <a:xfrm>
              <a:off x="1752120" y="2286000"/>
              <a:ext cx="203472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im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scola strategi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rprese per sott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ttere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 minacc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uff; cerca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domin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anier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pparire impegna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 una posizion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anipola in mo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struttivo l’altra po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81880" y="2332080"/>
              <a:ext cx="245232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ortamento flessibi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 senza sorpre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divide le informazio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d è onesto; tratta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comprension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tegr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soluzioni ai pr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emi soddisfac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 entramb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1640" y="2332080"/>
              <a:ext cx="259236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va incontro compl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mente a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nuncia al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mmorbidire 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odi di adattar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posizion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309B-3589-4514-BF54-2FF1E00149B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1981080"/>
            <a:ext cx="75438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4960" y="2098800"/>
            <a:ext cx="846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30240" y="1371600"/>
            <a:ext cx="6543360" cy="637560"/>
            <a:chOff x="1830240" y="1371600"/>
            <a:chExt cx="6543360" cy="637560"/>
          </a:xfrm>
        </p:grpSpPr>
        <p:sp>
          <p:nvSpPr>
            <p:cNvPr id="218" name=""/>
            <p:cNvSpPr/>
            <p:nvPr/>
          </p:nvSpPr>
          <p:spPr>
            <a:xfrm>
              <a:off x="1830240" y="137160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90920" y="1371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7280" y="13716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800" y="1338120"/>
            <a:ext cx="1464480" cy="5265000"/>
            <a:chOff x="1800" y="1338120"/>
            <a:chExt cx="1464480" cy="5265000"/>
          </a:xfrm>
        </p:grpSpPr>
        <p:sp>
          <p:nvSpPr>
            <p:cNvPr id="222" name=""/>
            <p:cNvSpPr/>
            <p:nvPr/>
          </p:nvSpPr>
          <p:spPr>
            <a:xfrm>
              <a:off x="229320" y="133812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0" y="2133720"/>
              <a:ext cx="146448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trum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per ave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succes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Estre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nega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ttitud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chiave/com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ffront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l’impas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76520" y="2100240"/>
            <a:ext cx="7230960" cy="4502880"/>
            <a:chOff x="1676520" y="2100240"/>
            <a:chExt cx="7230960" cy="4502880"/>
          </a:xfrm>
        </p:grpSpPr>
        <p:sp>
          <p:nvSpPr>
            <p:cNvPr id="225" name=""/>
            <p:cNvSpPr/>
            <p:nvPr/>
          </p:nvSpPr>
          <p:spPr>
            <a:xfrm>
              <a:off x="1676520" y="2133720"/>
              <a:ext cx="2227320" cy="42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rea una cattiv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mmagine dell’altro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gnora le log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rui; aumen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tenere che il su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obiettivo sia quell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impedire a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ggiungere l’ob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o vinco, tu perdi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correre ad 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diatore/arbi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2160" y="2133720"/>
              <a:ext cx="242784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 i cattivi stereotip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idera le idee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ase al merito; n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duce 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fondere 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dentità e quella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Qual è il miglior modo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ddisfare gli obiettivi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ntrambe le parti ?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un facilitat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erto in dinam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grup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8480" y="2100240"/>
              <a:ext cx="207900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inimizza o evi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l conflitto e pla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venta uno zerbi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u vinci, io perdo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form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ll’assertività 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sicoterap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Strategie Negoziali (3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73BD-1EF3-4E85-93FE-B8AE0778DE0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 Conflitti e le Obiezioni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84B77-3DB2-466C-9AE7-7E42EACFF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4920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8400" y="19177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2040" y="2362320"/>
            <a:ext cx="2154960" cy="4203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l’Aper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ggr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i Lunghi Silenz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l Beffa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8400" y="2374920"/>
            <a:ext cx="59252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ette a disagio le controparti facendo commenti taglie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ulle loro prestazioni precedenti, i loro numeri, l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rragionevolezza, od ogni altra cosa possa ess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utilizzata per insinuare che non vale la pena parlare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e contropa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scolta le controparti ma non risponde in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mmediato alle loro proposte e affermazioni, qua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iuttosto sembra lasciar loro molto tempo, con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sultato che i lunghi silenzi hanno lo scopo di fare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odo che chi gli è di fronte si scopra di pi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eride e schernisce le proposte dell’opposizione al f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mettere quest’ultima così in tensione da dire qualcos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cui, poi, doversi pent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6597-986E-4D37-86DB-071F1A4E197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43080" y="2297160"/>
            <a:ext cx="846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644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2280" y="19051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0680" y="2374920"/>
            <a:ext cx="1959840" cy="3929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terrog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ll’Inf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Ragionevolez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ivide et imp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3360" y="2374920"/>
            <a:ext cx="60246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fronta tutte le proposte con meticolosità, sollecit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n modo tale da indurre la controparte a riten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 non abbia fatto attentamente il lavoro. Affronta og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isposta evidenziando i problemi e chi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’opposizione di spiegare in modo più approfond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sa inte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mbra disposto ad accettare ed è di aiuto, mentre p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nde impossibili allo scopo di conquistare l’amiciz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 la confidenza dell’op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 dissenso tra l’opposizione in modo che deb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re attenta al disaccordo interno. Si allea con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rsona del team e cercare di condizionarlo contro gli al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ri del grup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La Riunione: le Tattich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E7EAD-384B-4614-9BBD-037C400719C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0" i="1" lang="it-IT" sz="2800" spc="-1" strike="noStrike">
                <a:solidFill>
                  <a:srgbClr val="0000cc"/>
                </a:solidFill>
                <a:latin typeface="Tahoma"/>
              </a:rPr>
              <a:t>Più l’uomo dà agli altri, più possiede se stesso”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Lao-Tze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D4012-6E6B-40CC-8E27-DD1FDF6F77C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valor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contro tra person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cussioni di meri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28720" y="3270240"/>
            <a:ext cx="1725840" cy="12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3250-5E22-4857-B43F-EBA709B985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strade per tentare di uscire da un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0" y="1988640"/>
            <a:ext cx="490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METACOMUNICA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IVOLGERSI AD UN TERZ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ARMO UNILATER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RISTRUTTURAZION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5800" y="2378160"/>
            <a:ext cx="2867040" cy="30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DDBE-D0ED-4CE9-9D43-BFB36F3D95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gestione de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i possono essere diversi tipi di bisogni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sicurezza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qu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nov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tranquil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…………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104920" y="2975040"/>
            <a:ext cx="97488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1643-7911-4ECD-BC1C-8DF71E36E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Possibili risposte a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NV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Mi dà l'opportunità di parlarne dop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DUR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Tenendo conto di tutte queste osservazioni quale è la più importante dalla quale partiam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AMPL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C'è qualcosa d'altro che vuole dirmi?”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ISOL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Rispondendo a queste domande soddisfo tutti i suoi bisogni?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TRASFORMARE IN ARGOMENTO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Dare la spiegazione tecnica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-44568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CONTRODOMAND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45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Rilevare la fondatezza dell'opinione</a:t>
            </a:r>
            <a:r>
              <a:rPr b="0" lang="fr-FR" sz="17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1557360" y="3156120"/>
            <a:ext cx="207180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A55A-1DE0-41B6-9C49-0D76B829F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l Gruppo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E8BD6-BABC-43E0-996D-3F7E381022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4:55:16Z</dcterms:created>
  <dc:creator>Giangreco</dc:creator>
  <dc:description/>
  <cp:keywords/>
  <dc:language>en-US</dc:language>
  <cp:lastModifiedBy>Daniela</cp:lastModifiedBy>
  <cp:lastPrinted>1999-04-19T15:18:12Z</cp:lastPrinted>
  <dcterms:modified xsi:type="dcterms:W3CDTF">2008-04-02T06:18:27Z</dcterms:modified>
  <cp:revision>273</cp:revision>
  <dc:subject/>
  <dc:title>Negoziazione</dc:title>
</cp:coreProperties>
</file>