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914400" y="457200"/>
            <a:ext cx="495000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08600" y="8823240"/>
            <a:ext cx="9363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7EA80-C75C-4A1F-8570-C58EFA9E683D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/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66880" y="8879040"/>
            <a:ext cx="5202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14400" y="4603680"/>
            <a:ext cx="4846680" cy="3819600"/>
            <a:chOff x="914400" y="4603680"/>
            <a:chExt cx="4846680" cy="3819600"/>
          </a:xfrm>
        </p:grpSpPr>
        <p:sp>
          <p:nvSpPr>
            <p:cNvPr id="45" name=""/>
            <p:cNvSpPr/>
            <p:nvPr/>
          </p:nvSpPr>
          <p:spPr>
            <a:xfrm>
              <a:off x="922320" y="460368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22320" y="495936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14400" y="529128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564660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30240" y="599436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30240" y="635004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22320" y="668196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22320" y="703728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22320" y="737856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22320" y="773424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806616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14400" y="842184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419480" y="4145040"/>
            <a:ext cx="48672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2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967560"/>
            <a:ext cx="8912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96756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1960" y="396756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8920" y="160488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2120" y="160488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96756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08920" y="396756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2120" y="396756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880"/>
            <a:ext cx="89121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21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127080"/>
            <a:ext cx="8912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96756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1960" y="396756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967560"/>
            <a:ext cx="8912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121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6665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LE RIUNIONI DI T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5120" y="533160"/>
            <a:ext cx="8420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GLI ERRORI PIÙ FREQUENTI NELLA GESTIONE DELLE RIUN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02920" y="1752480"/>
            <a:ext cx="7016760" cy="445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N CONDURRE LA RIUN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MPORTAMENTI E COMUNICAZIONI DISPERSIVI, CONFLITTUALI, NON COERENTI CON L’OBIETTIVO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ANCANZA DI COORDI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FFICOLTÀ A PRENDERE DECIS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N CONCLUDERE LA RIUN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SSENZA DI CONCLUSIONE E CONDIVISIONE DI DECISIONI PR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SSENZA DI PIANIFICAZIONE OPE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NDUZIONE DELLE RIUNIONI: GESTIRE IN MODO ATTIVO LE DIVERSE 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2680" y="1599840"/>
            <a:ext cx="8420040" cy="46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PARAZION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PRIMA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ERTUR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NELLA PARTE INIZIALE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SVOLGIMENTO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NELLA PARTE CENTRALE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NELLA PARTE FINALE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REPARAZIONE DELLA RIUNI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600200"/>
            <a:ext cx="8420040" cy="432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FINIRE L’OBIETTIVO DELLA RIUNIONE. QUAL E’ IL RISULTATO ATTESO ATTESO, COSA SI VUOLE CONSEGUIRE CON 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EDISPORRE UN ORDINE DEL GI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TABILIRE LA DURATA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DENTIFICARE I PARTECIPANTI NECESS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EPARARE LA DOCUMENTAZIONE NECESS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FINIRE LE CONDIZIONI LOGIST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NVIARE TUTTA LA DOCUMENTAZIONE NECESS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PERTURA DELLA RIUNIONE</a:t>
            </a:r>
            <a:br>
              <a:rPr sz="28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CREARE CONDIVISIONE SU FINALITÀ E MODALITÀ DI LAVO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7800" y="2057040"/>
            <a:ext cx="8585280" cy="408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SPLICITARE IL RISULTATO ATTESO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PECIFICARE L’ORDINE DEL GI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FINIRE I TEM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TABILIRE IL METODO/PROCESSO DI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SSEGNARE EVENTUALI INCARI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ICORDARE EVENTUALI ASPETTI LOGIST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VOLGIMENTO DELLA RIUNIONE</a:t>
            </a:r>
            <a:br>
              <a:rPr sz="28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GESTIRE LE COMUNICAZIONI, INDIRIZZARE VERSO L’OBIETTIVO PREVIS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7800" y="2057400"/>
            <a:ext cx="8585280" cy="523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ESIDIO DELLA METODOLOGIA/PROCESSO DI LAVORO STABIL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EGOLARE LA COMUNICAZIONE: FAR INTERVENIRE, GARANTIRE L’ASCOLTO, INTEGRARE, LIMITARE, ALLARGA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VITARE DISPERSIONI, NON SOFFERMARSI SU ARGOMENTI SECONDARI O AL DI FUORI DELL’ORDINE DEL GI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GESTIRE RAPPORTI-COMPORTAMENTI PROBLEMATICI O CONFLITT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TILIZZARE SUPPORTI: LAVAG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VOLGIMENTO DELLA RIUNIONE</a:t>
            </a:r>
            <a:br>
              <a:rPr sz="28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GESTIRE LE COMUNICAZIONI, INDIRIZZARE VERSO L’OBIETTIVO PREVIS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2057400"/>
            <a:ext cx="8585280" cy="456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ARE SINTESI PARZIALI AL TERMINE DI OGNI FASE E SU COSE “ACQUISITE”, RICAPITOLARE PERIODIC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SCUTERE ALL’INIZIO I PUNTI CHE RICHIEDONO MAGGIORE IMPEGNO, INIZIARE DAI PUNTI CHE UNISCONO I PARTECIP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HIUDERE ALL’ORA STABILITA ( LA DURATA IDEALE DI RIUNIONE NON DOVREBBE SUPERARE LE DUE 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NCLUSIONE DELLA RIUNIONE</a:t>
            </a:r>
            <a:br>
              <a:rPr sz="28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VERIFICA DI CIO’ CHE E’ IN COMUNE, FISSARE OUTPUT CONDIVI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7800" y="2057040"/>
            <a:ext cx="858528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INTESI DI CIO’ CHE E’ STATO DEFINITO E MESSO IN COM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ILEVAZIONE DI EVENTUALI PUNTI ANCORA APER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IANIFICAZIONE DEL “DOPO” RIUNIONE: AZIONI, COMPITI E RESPONSABILITÀ, TEMPI, MODALITÀ DI VER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4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VERBALE DELLA RIUNIONE</a:t>
            </a:r>
            <a:br>
              <a:rPr sz="28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DOCUMENTARE LA RIUNIONE, EVITARE CHE SI RIMETTANO IN DISCUSSIONE COSE ACQUISITE, RESPONSABILIZZARE SULLE CONCLUSIO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2680" y="2389320"/>
            <a:ext cx="84200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EMA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UNTI TRATT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VENTUALE SINTESI INTERVENTI DEI SINGOLI, PROPOSTE FATTE, POSIZIONI ASSU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INTESI DELLE CONCLUSIONI E DELLE DECISIONI PR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ESPONSABILITÀ ASSEG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Le qualità del condut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para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conosciuto per le sue compet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ccettato come per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apace di valorizzare tut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utostima autonoma: non permal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hiaro e sinte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telligente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Le qualità del condut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nergico: deve essere ripos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redib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si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on ansio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on manipolabile – obiet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involg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erché ci si riunis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36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Decidere cosa f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a cosa nu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ggiustamenti in corso d'op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erché ci si riunis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sentare un proget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convincere della sua bon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erché ci si riunis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sentare un proget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sottoporlo a possibili modif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erché ci si riunis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ventare assieme qualcosa di nuov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processo creativo di grup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erché ci si riunis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enere alta la motivazione e la tension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gire sulle emoz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5120" y="533160"/>
            <a:ext cx="8420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GLI ERRORI PIÙ FREQUENTI NELLA GESTIONE DELLE RIUN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85720" y="1752480"/>
            <a:ext cx="693396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N PROGETTARE/PREPARARE ANTICIPATAMENTE LA RIUN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IUNIONE NON NECESS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IUNIONE DIVERSA DA QUELLA NECESS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OBIETTIVO POCO CHIA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ORDINE DEL GIORNO NON FORMUL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ARTECIPANTI NON ADEGU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ARTECIPANTI SENZA INFORM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10:52:13Z</dcterms:created>
  <dc:creator>Tartaglia</dc:creator>
  <dc:description/>
  <dc:language>en-US</dc:language>
  <cp:lastModifiedBy>Your User Name</cp:lastModifiedBy>
  <cp:lastPrinted>2010-03-11T20:03:29Z</cp:lastPrinted>
  <dcterms:modified xsi:type="dcterms:W3CDTF">2008-12-15T15:30:21Z</dcterms:modified>
  <cp:revision>161</cp:revision>
  <dc:subject/>
  <dc:title>Presentazione di PowerPoint</dc:title>
</cp:coreProperties>
</file>